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89EB-E6BD-4F92-ADA1-EDE0670A5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7151-602A-4207-BB60-BC617F85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D99C-63FA-4311-84BF-CCE62982F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10A4-8B50-4349-B5AB-68080E295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1BAE-44E0-483D-B32C-96E4C008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023F-68D9-4E7F-A1DC-4EE87414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C50D-0BFA-43F9-9088-A32B5DCB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0623-CBB8-46ED-8912-36CAF618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9068-8A73-4843-A14C-85589F75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2274-63E0-4EC0-9562-44878F92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27BA-135A-4BD7-8DFB-292CD13A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4C05-EAA6-4BA6-AF9D-E9909918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6DD8-2172-44FE-BEBE-A18667EBA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8/Ingres%2C_Napoleon_on_his_Imperial_throne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3/Napoleon-Throne.480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e/NapLogo_copy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1/Napoleon_Bonaparte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Eastlake_-_Napoleon_on_the_Bellerophon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0/1801_Antoine-Jean_Gros_-_Bonaparte_on_the_Bridge_at_Arcole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9/Antoine-Jean_Gros_-_Bonaparte_visitant_les_pestif&#233;r&#233;s_de_Jaffa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8/Jean-L&#233;on_G&#233;r&#244;me_003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e/ea/Bonaparte_in_the_18_brumaire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3/Jean_Auguste_Dominique_Ingres_016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e/Napoleon4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1/19/ME2-DSC_8604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Image:Flag of France.svg"/>
          <p:cNvPicPr/>
          <p:nvPr/>
        </p:nvPicPr>
        <p:blipFill>
          <a:blip r:embed="rId1"/>
          <a:stretch/>
        </p:blipFill>
        <p:spPr>
          <a:xfrm>
            <a:off x="5867280" y="4343400"/>
            <a:ext cx="3276720" cy="2182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90720" y="2286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poleon Bonaparte – 1769-1821(1795-18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3171960" cy="2114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276720" y="2971800"/>
            <a:ext cx="23526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mperor – Napoleon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Image:Ingres, Napoleon on his Imperial thron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990720"/>
            <a:ext cx="35240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 Throne – fit for a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Image:Napoleon-Throne.48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1143000"/>
            <a:ext cx="3724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poleon’s 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Image:NapLogo cop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1447920"/>
            <a:ext cx="3098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at of Arms for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ench Emp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Image:Armoiries-Empire.jpg"/>
          <p:cNvPicPr/>
          <p:nvPr/>
        </p:nvPicPr>
        <p:blipFill>
          <a:blip r:embed="rId1"/>
          <a:stretch/>
        </p:blipFill>
        <p:spPr>
          <a:xfrm>
            <a:off x="2286000" y="1371600"/>
            <a:ext cx="4784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attle of Austerlitz (masterpiece) - 18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84872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tain’s Finest – Horatio Nelson &amp; Duke of Wellingt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05                                             18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454640" cy="5410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724280" y="1143000"/>
            <a:ext cx="42735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le of Trafalgar – 1805 (Do you see the “T”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84872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s in Spain - 18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Image:Francisco de Goya y Lucientes 023.jpg"/>
          <p:cNvPicPr/>
          <p:nvPr/>
        </p:nvPicPr>
        <p:blipFill>
          <a:blip r:embed="rId1"/>
          <a:stretch/>
        </p:blipFill>
        <p:spPr>
          <a:xfrm>
            <a:off x="914400" y="990720"/>
            <a:ext cx="7372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Image:Napoleon Bonapart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11480" y="1447920"/>
            <a:ext cx="3146400" cy="53337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poleon in his study - 18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ussian Campaign - 18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17220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poleon the Sold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38257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poleon’s Abdication - 18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Image:Abdication napoleon02.jpg"/>
          <p:cNvPicPr/>
          <p:nvPr/>
        </p:nvPicPr>
        <p:blipFill>
          <a:blip r:embed="rId1"/>
          <a:stretch/>
        </p:blipFill>
        <p:spPr>
          <a:xfrm>
            <a:off x="762120" y="990720"/>
            <a:ext cx="7619760" cy="56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File:Napoleon's exile to Elba3.jpg"/>
          <p:cNvPicPr/>
          <p:nvPr/>
        </p:nvPicPr>
        <p:blipFill>
          <a:blip r:embed="rId1"/>
          <a:stretch/>
        </p:blipFill>
        <p:spPr>
          <a:xfrm>
            <a:off x="1676520" y="1600200"/>
            <a:ext cx="5962680" cy="4892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371600" y="3049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ES THIS MAKE YOU THIN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poleon’s First Exile – Island of El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51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poleon – Final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376740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 Final Defeat – Waterloo 18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 Second Exile – St. Helena 18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Napoléon on Bellerophon at Plymouth, before his exile to Saint Helen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1523880"/>
            <a:ext cx="32702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eath of Napoleon – St. Helena 18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6390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poleon’s Return to France - 18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Image:Belle-poule-napoleon-couleur.jpg"/>
          <p:cNvPicPr/>
          <p:nvPr/>
        </p:nvPicPr>
        <p:blipFill>
          <a:blip r:embed="rId1"/>
          <a:stretch/>
        </p:blipFill>
        <p:spPr>
          <a:xfrm>
            <a:off x="762120" y="1523880"/>
            <a:ext cx="76197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 Tomb – Les Inva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Image:Napoleon tomb bordercropped.jpg"/>
          <p:cNvPicPr/>
          <p:nvPr/>
        </p:nvPicPr>
        <p:blipFill>
          <a:blip r:embed="rId1"/>
          <a:stretch/>
        </p:blipFill>
        <p:spPr>
          <a:xfrm>
            <a:off x="914400" y="1295280"/>
            <a:ext cx="71913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poleon the Revolutio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Image:1801 Antoine-Jean Gros - Bonaparte on the Bridge at Arcol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1143000"/>
            <a:ext cx="3736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poleon the Conque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Image:Antoine-Jean Gros - Bonaparte visitant les pestiférés de Jaff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219320"/>
            <a:ext cx="7619760" cy="54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poleon in Egypt – 1798-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Image:Jean-Léon Gérôme 00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828800"/>
            <a:ext cx="761976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up d’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t – Ending of the Directory 17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Image:Bonaparte in the 18 brumair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1600200"/>
            <a:ext cx="670572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poleon as First Cons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Image:Jean Auguste Dominique Ingres 01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1143000"/>
            <a:ext cx="3544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ing of the Alps- 1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Image:Napoleon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1219320"/>
            <a:ext cx="4680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 Coronation as Emperor - 18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Image:ME2-DSC 860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371600"/>
            <a:ext cx="761976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4:38:30Z</dcterms:created>
  <dc:creator>nbdoe</dc:creator>
  <dc:description/>
  <dc:language>en-US</dc:language>
  <cp:lastModifiedBy>nbdoe</cp:lastModifiedBy>
  <dcterms:modified xsi:type="dcterms:W3CDTF">2010-03-22T14:18:28Z</dcterms:modified>
  <cp:revision>7</cp:revision>
  <dc:subject/>
  <dc:title>Napoleon in his study - 1812</dc:title>
</cp:coreProperties>
</file>